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B558-4362-4E16-960D-D2DFE022D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0283-062B-4744-9155-F785FAEA5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87DD-AC85-41EE-91B8-7C3D389CE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F81C-BD62-4DA1-AB84-47DFC23C1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5FD1-BB5D-4D0F-B79C-6A6DC72FB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9FEE-6668-4611-8B9D-125C6FA79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4FEA-E40F-4A9A-A73C-5137E9A5A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7E16-73F8-4723-AD20-3B20CECAB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38E0-DAB8-467A-BA16-065832907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67B9-896F-4A60-9854-CAC75EBA7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D6A3-51C2-4CC7-BB90-15A1F2C1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1420-AC65-401F-A095-6CEEC15D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C47BB-1931-4818-95D1-1C00E66B3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PERÁCIÓS RENDSZE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PERÁCIÓS RENDSZE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z operációs rendszer egy olyan programozási rendszer, amely a számítógépes rendszerben a programok végrehajtását vezérli, így pl. ütemezi a programok végrehajtását, elosztja az erőforrásokat, biztosítja a felhasználó és a számítógép között a kommunikáció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ő feladat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askok ütemeinek összehangolás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rőforrások kezelé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/O megszervezé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/O= a külső beavatkozást követő információt nevezzük inputna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rendszer erre adott reakcióját megtestesítő információt pedig Outputnak nevezzü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nput►renszer►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Hiba kezel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helyes és optimális működés figyelé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datvéde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aplózás és számlázás. Kapcsolattartás a felhasználóv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op.rendszer lefelé a hardvert kezeli és feladata a jó hardver lehetőség kihasznál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5661000"/>
            <a:ext cx="8424720" cy="785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3399"/>
                </a:solidFill>
                <a:latin typeface="Arial"/>
              </a:rPr>
              <a:t>Task= a memóriában lévő és futásra kész programo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3399"/>
                </a:solidFill>
                <a:latin typeface="Arial"/>
              </a:rPr>
              <a:t>Erőforrás= a számítógép valamely hardver és szoftver egysége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z Operációs rendszer: a hardver és a felhasználó. között helyezkedik el. Nagyméretű és bonyolult progra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92360" y="1844640"/>
            <a:ext cx="5759280" cy="4032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84360" y="2421000"/>
            <a:ext cx="4176720" cy="331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64000" y="4005360"/>
            <a:ext cx="2016000" cy="1439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780000" y="450864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HA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1720"/>
            <a:ext cx="30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Operáció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rendsz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16360" y="2060640"/>
            <a:ext cx="31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lhasznál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50920" y="404640"/>
            <a:ext cx="87138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mióta számítógépek vannak azóta alakulnak az operációsrendszerek i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Állandó fejlődé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indig újabbak fognak következ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S DOS: Több mint 10 éve készült, amikor kezdték tervezni már átvette az előző oprendszerek tapasztalatait. Nagyon nagy fejlesztő gárda dolgozott rajta, nagyon kell érteni a rendszerhez, hogy valaki tudja használni a gépe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3429000"/>
            <a:ext cx="1511280" cy="576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S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24000" y="3429000"/>
            <a:ext cx="1511280" cy="576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 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24360" y="3429000"/>
            <a:ext cx="1511280" cy="576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940360" y="3429000"/>
            <a:ext cx="1511280" cy="576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124000" y="4437000"/>
            <a:ext cx="1511280" cy="576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NT 3.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95640" y="4437000"/>
            <a:ext cx="1511280" cy="576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NT 4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12000" y="4437000"/>
            <a:ext cx="1511280" cy="576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236000" y="5661000"/>
            <a:ext cx="1511280" cy="576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03640" y="5661000"/>
            <a:ext cx="1511640" cy="576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63640" y="3573360"/>
            <a:ext cx="360360" cy="216000"/>
          </a:xfrm>
          <a:prstGeom prst="rightArrow">
            <a:avLst>
              <a:gd name="adj1" fmla="val 50000"/>
              <a:gd name="adj2" fmla="val 4170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35280" y="364500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508720" y="364500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35280" y="4653000"/>
            <a:ext cx="360360" cy="216000"/>
          </a:xfrm>
          <a:prstGeom prst="rightArrow">
            <a:avLst>
              <a:gd name="adj1" fmla="val 50000"/>
              <a:gd name="adj2" fmla="val 4170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08720" y="4653000"/>
            <a:ext cx="360360" cy="216000"/>
          </a:xfrm>
          <a:prstGeom prst="rightArrow">
            <a:avLst>
              <a:gd name="adj1" fmla="val 50000"/>
              <a:gd name="adj2" fmla="val 4170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5400000">
            <a:off x="7128720" y="4041000"/>
            <a:ext cx="1944720" cy="115272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1152720"/>
              <a:gd name="textAreaBottom" fmla="*/ 11530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43" stAng="10800000" swAng="5400000"/>
                <a:lnTo>
                  <a:pt x="18016" y="4017"/>
                </a:lnTo>
                <a:lnTo>
                  <a:pt x="18016" y="0"/>
                </a:lnTo>
                <a:lnTo>
                  <a:pt x="21600" y="6079"/>
                </a:lnTo>
                <a:lnTo>
                  <a:pt x="18016" y="12158"/>
                </a:lnTo>
                <a:lnTo>
                  <a:pt x="18016" y="8141"/>
                </a:lnTo>
                <a:lnTo>
                  <a:pt x="12427" y="8141"/>
                </a:lnTo>
                <a:arcTo wR="8303" hR="4019" stAng="16200000" swAng="-5400000"/>
                <a:lnTo>
                  <a:pt x="412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5400000">
            <a:off x="7270920" y="4904280"/>
            <a:ext cx="865440" cy="505080"/>
          </a:xfrm>
          <a:custGeom>
            <a:avLst/>
            <a:gdLst>
              <a:gd name="textAreaLeft" fmla="*/ 0 w 865440"/>
              <a:gd name="textAreaRight" fmla="*/ 865800 w 8654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43" stAng="10800000" swAng="5400000"/>
                <a:lnTo>
                  <a:pt x="18016" y="4017"/>
                </a:lnTo>
                <a:lnTo>
                  <a:pt x="18016" y="0"/>
                </a:lnTo>
                <a:lnTo>
                  <a:pt x="21600" y="6079"/>
                </a:lnTo>
                <a:lnTo>
                  <a:pt x="18016" y="12158"/>
                </a:lnTo>
                <a:lnTo>
                  <a:pt x="18016" y="8141"/>
                </a:lnTo>
                <a:lnTo>
                  <a:pt x="12427" y="8141"/>
                </a:lnTo>
                <a:arcTo wR="8303" hR="4019" stAng="16200000" swAng="-5400000"/>
                <a:lnTo>
                  <a:pt x="412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156360" y="5084640"/>
            <a:ext cx="216000" cy="576360"/>
          </a:xfrm>
          <a:prstGeom prst="downArrow">
            <a:avLst>
              <a:gd name="adj1" fmla="val 50000"/>
              <a:gd name="adj2" fmla="val 6670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Oprendszerek csoportosítá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59280" y="1557360"/>
            <a:ext cx="2808000" cy="647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lhasználó szer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2565360"/>
            <a:ext cx="2808360" cy="647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Több felhasználó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(Multi us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42920" y="2565360"/>
            <a:ext cx="2808360" cy="647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Egy felhasználó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(Single us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5157720"/>
            <a:ext cx="2808360" cy="647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Multi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26920" y="5229360"/>
            <a:ext cx="2808360" cy="647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Singl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76720" y="4005360"/>
            <a:ext cx="2808000" cy="647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Task futatás szer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2411280" y="4653000"/>
            <a:ext cx="1440000" cy="576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219640" y="4653000"/>
            <a:ext cx="1584360" cy="504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2195280" y="2205000"/>
            <a:ext cx="143964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03640" y="2205000"/>
            <a:ext cx="122400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2T06:20:14Z</dcterms:created>
  <dc:creator>Nagymáté Péter</dc:creator>
  <dc:description/>
  <dc:language>en-US</dc:language>
  <cp:lastModifiedBy>Nagymáté Péter</cp:lastModifiedBy>
  <dcterms:modified xsi:type="dcterms:W3CDTF">2003-10-02T06:51:38Z</dcterms:modified>
  <cp:revision>2</cp:revision>
  <dc:subject/>
  <dc:title>OPERÁCIÓS RENDSZER </dc:title>
</cp:coreProperties>
</file>